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50A-A026-4248-86BE-D8EE93E14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ite space in the end contains enzymes where digestion has occ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07F-E8CD-441A-A5FB-2E38D667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153-3241-4C33-9868-911EE81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4A8-9F11-4AC4-8449-F77105C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483-EA09-4A21-8E58-FA439673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5CC-3FE1-4E89-A2D4-8178179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399-EC71-4672-8B39-022B260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A4F-8505-4F6F-92F4-925909A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052-D757-4ADA-8204-A79FA5B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650-180B-4470-AE61-3FDA0134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66E-45BA-4B31-8366-CC8B91A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EE8-D77C-4A97-910C-E94669D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E9D-0F59-4E2A-A50F-A0C4D88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50C-DF96-49AA-8AEC-4EAA49712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bactcell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mp.berkeley.edu/bacteria/bacteriate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opic 2.2 Prokaryotic Cel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inary Fission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karyotes divide by binary fission.  There are 4 main s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al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lication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ion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ion of cytoplasm (cytokine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422440" cy="58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ractical and Homewor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 at the electron micrograph of a prokaryotic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a larger labelled diagram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ing the original specimen is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 long, calculate the magnification of your dra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 labels to show the relevant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notate your diagram to explain what each part does.  Use your class notes and </a:t>
            </a:r>
            <a:r>
              <a:rPr b="0" lang="en-GB" sz="28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http://www.cellsalive.com/cells/bactcell.ht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o help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0.htm24" descr=""/>
          <p:cNvPicPr/>
          <p:nvPr/>
        </p:nvPicPr>
        <p:blipFill>
          <a:blip r:embed="rId1"/>
          <a:srcRect l="0" t="0" r="51996" b="0"/>
          <a:stretch/>
        </p:blipFill>
        <p:spPr>
          <a:xfrm>
            <a:off x="2771640" y="476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ypes of Cell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an be simply split into two types based on their complex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are Prokaryotic Cells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st organisms to ev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cel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.g.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 (1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everyw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2674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s the ribosome is 70 Svedberg's long.  Svedberg is a unit to measure cell organell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karyote"/>
          <p:cNvPicPr/>
          <p:nvPr/>
        </p:nvPicPr>
        <p:blipFill>
          <a:blip r:embed="rId1"/>
          <a:stretch/>
        </p:blipFill>
        <p:spPr>
          <a:xfrm>
            <a:off x="3419640" y="1484280"/>
            <a:ext cx="5400360" cy="4956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mbrane 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ru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ibosomes (eukaryotes have 80S riboso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does each part do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Slime capsu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attachment, protection, food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Flagell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sgl Flagellum) –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Cell w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protein/carbohydrate complex – shape an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Plasma membra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substance entry and exi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Cytoplas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does each part do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Ribos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Nucle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NA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P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ttachment and pro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ircles of DNA outside the nucleoid.  Can be exchanged (conjugation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lectron Micrograph of a Prokaryotic Cell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visible organelles – must be a prokaryot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oid is the lighter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rker area is the cytoplasm with ribosome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3360"/>
            <a:ext cx="4200480" cy="47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lectron Micrograph of a Prokaryotic Cell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ample appears to have a grey shading around the edge.  These are the  p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oid is difficult to see in this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176720" cy="400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8:16:30Z</dcterms:created>
  <dc:creator>belindashorland</dc:creator>
  <dc:description/>
  <dc:language>en-US</dc:language>
  <cp:lastModifiedBy>belindashorland</cp:lastModifiedBy>
  <dcterms:modified xsi:type="dcterms:W3CDTF">2008-09-30T04:03:06Z</dcterms:modified>
  <cp:revision>7</cp:revision>
  <dc:subject/>
  <dc:title>Topic 2.2 Prokaryotic Cells</dc:title>
</cp:coreProperties>
</file>